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254-BE2A-4C21-99B5-CB29F739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EBE-D02C-4E9E-9B90-4D43D9FA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53E52-4965-432B-9E95-63F5C80D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01644-F7FA-406B-A314-04D83037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9454D-A9AC-424F-8399-497FE05D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58789-D2CE-44CB-8415-89B162F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71080-8DE0-4910-B1F3-6FC01D9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962D9-B436-41B1-BC45-72C92128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B91F9-D131-4290-8C44-C624E94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556EF-C425-4390-9AB8-944799C6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CC285-AD91-49EA-83A2-820B3741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7112B-E881-4D69-8FFA-2355AC25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BE7-2215-446C-A358-70AA9A91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D8EC5-CBBB-4E72-AF8F-0E8A472A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5F54B-DEBF-4A5A-A95E-3D4A269D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64B26-0658-48BB-92B6-98DDE458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38236-1376-493B-B038-2912CD4B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5F53E-D2C2-4123-86EE-C7719D7D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9A110-8F33-4B41-B1CB-129EEA87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76EEB-48B0-4E75-A013-A0152F87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B4B65-8B4F-4EE4-8C95-FE85A65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A9497-7159-4EB3-B68F-326AE16A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57FED-D4C9-4CB3-8D30-8265A469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BC2-F163-4946-94BA-38DE8C7E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B076D-856A-4C3A-A0FC-1269BBF5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B908E-B8C9-4300-94EA-6E348C90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71889-C472-4872-AF66-C93AD530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3F15B-D054-4DC4-99BC-D5971547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ED5C8-5B04-4DD9-A3DE-7ABF5BD1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D4E5B-3BDD-47DD-8D38-DF0BCB35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5DE83-ABEF-4480-9BD6-C47BB1DD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6F99F-06CF-4345-AC23-8C7A2631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2D7CD-26AE-484E-825B-7ADB253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D130C-588E-445B-AF60-0F36E74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6BE8-C7A4-4611-872D-B72F016E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E95BA-7075-4ECD-9FB5-8C6FEF04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CCEA8-339A-46F3-B8C6-EA7CA0D5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C2423-60E3-487F-9896-ABD61177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EA387-E0E7-4456-B61E-D75D001A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81F1D-B3B8-404B-AABE-2682866B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FFB69-9D32-485F-B946-2F51FEE7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CBEE1-4CEA-4E12-B086-8E645FDF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EF844-26CB-4206-A1DB-26846E69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204A4-A260-48F2-B34D-8FD571D1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63EE4-F8CB-44E9-9D8E-3BACD02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46EF-2C1D-4F47-978D-88DA929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29E96-3591-49D2-A0ED-DF44878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8A8F1-45D5-4BE5-AAE9-AF87D99D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17117-7652-43F1-8CBC-66C0F7DA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82854-AAE1-47DF-96DF-29DB0903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18299-A61E-45AD-91EA-88727C1E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E7BDC-15FB-4D7A-B9EE-7BAA305A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86A07-4B5E-41C7-AC69-0EE8193D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BFDC5-C8C4-4198-B1DD-7F719CBD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AC703-E275-4934-A374-6725CEA8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9D5AD-A660-4801-BFE5-7B3BD47D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7E2F-7C2E-4925-A199-D5969F40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9F0A1-DD82-4BF5-9898-F45C53B1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44940-C57A-4026-9EDC-7CDFDA8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CAC01-9D52-40BD-97C8-2841124C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175F1-FAE1-41B3-B4CF-BF123363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D3D1A-A1D4-4F4F-9606-3EA68846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F9345-E99A-41D0-A2B1-A9633D9B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22F9A-2F6A-4235-9165-FD8AB2ED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ECDB6-ACAD-4A8D-903A-7F3DC661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71B54-2D6D-4FA4-A140-97CD7768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4FEEE-399A-4F38-8596-350A62FB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E446-76FA-4DBA-9AF0-D7DD84C3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82189-6934-4F20-A206-F5303BA2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70F8D-2E6F-4905-91C1-534EFD81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B6367-EBDC-46AD-97E1-4D4DCB48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53F17-9AFC-46DB-B28E-3115537C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09783-14D5-404C-9DDB-852825AA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D916D-778E-4D17-843D-912D00B3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6526C-10D3-410E-A1BB-F088F1CA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8C988-3120-4C15-9B21-0EA51862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DC208-085C-44E0-AD13-68E83D38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D52DD-2D73-4054-89B0-9D58B047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0237-0525-46B8-9D67-28AD7D93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74066-136F-45A8-8A43-3B259C57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020CE-3858-4F9F-B929-CC7221BF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1A94F-33A9-4558-AC1B-2CCFA092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237EB-2AA0-434D-BE75-93F95787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4690B-C923-4CDD-A297-164ADD91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6ADDC-26F6-461A-872B-9143CA68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2BE2D-3A69-4CB8-8F5B-55F872D9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6CD6D-3A90-4F27-9F32-0E2B92A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55D91-FE47-4A5D-A16C-2398FFE0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29187-02A0-45A1-98EA-A5C9E578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0DA8-783D-4389-8245-633D5D0F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D9C92-28AF-4BAB-A34A-AF915A24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E43B3-BD87-4831-910F-E4604A7E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C3F8E-DC1C-46F4-80A5-5F514C8D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34E6C-82E8-4845-BB78-F8596B8D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86875-CA61-4C83-8123-6F5CC5BA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88FC8-165D-48E8-B0C7-8C4789E0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A91DA-CD0D-478F-96C6-AC581405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B8F6F1-DBC7-48B0-9CBA-EBB32DE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BFD8A-492B-4CCA-95FC-11DBA43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DFD76C-0D49-44C3-9FE3-A9F0317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5EED-1ADD-4F48-B506-291E1C8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642FA-A68C-40BF-9351-848F3B4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5D864-9BF7-401C-A481-5F651D1A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0E48F6-0021-489E-B852-EF028D37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93D54-2B00-46C9-8EBB-0183D186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AF52D-38E5-4631-9D98-096C059C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5325C-3EBB-4F4C-B8F6-C2340537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DADD7-B4C7-4C4B-AB91-310CCFCF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78C167-0D66-4A54-B17C-FEAEB6BC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F7898-B8B4-43F6-B121-911BF7B6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D838B-F77F-483F-9B76-98DF7D1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849-3E11-49F5-A35B-68BBCB91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B7D8-B5F4-4006-A6D7-E5A3D7C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9EFEF4-7508-4088-BC7F-2041B8F7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26EC0-2AE1-4DA8-9498-B609829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0E9BE1-809B-4CC2-BFD5-C7C463CB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6585B-4500-4397-A0B1-0CE3406E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9EE9B-5AF9-47A9-8FC2-822D9865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AE8EF-799E-4FB9-9FEC-77BE3F24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7A41E-32F3-42F8-8D90-6A79C3A6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AA4A8-2078-4CD6-998F-E2C7B5F2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9F356-55A7-4778-82E0-CC5284F1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A3274-8E8E-49BF-A7B1-BB41C773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9071-99F7-47D5-BFE7-5C076579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08182-3026-4D2B-A591-BBF961D0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87CC0E-A91F-478F-8137-6B0317BB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AEC6C-FC15-48AD-836E-D5434BD2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C8BD5-7906-4C57-B2B7-CEB0EAE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DB06BA-EB59-49EE-B036-71097C7A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79ADB-080A-4C97-A49D-2E01E9F8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3F58C-DF12-4AE0-9789-1AC48D2B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ABDBF-F7B5-4C05-9306-1244D05D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1FC11-5F97-4F5B-9E90-1F19E42F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8BE118-295A-4D1C-A68E-28075935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1BC6-FE84-4CC4-9B74-F2C7BF2C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C80B6-C9A3-4B77-A5FA-F644991A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038A2-A688-4165-B84D-F93113AB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4DC52-D24B-429C-9F38-5F618591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FAAEA-6257-4046-8508-50800BE8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928B1E-92DD-4AC0-B61E-FACE36D4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23C011-A76B-4577-970E-E0520D61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1B1E6-C035-4CFA-8BF0-6D35EF5B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F170D-01F7-4E3A-A141-A3BE0418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4D18B-6D16-44BD-A3D7-78D57E89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53E5D7-AB7E-4E27-974D-D781DD35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760C-AF43-4D63-B485-AEABFF54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21F65-C951-46EC-A49F-197471B1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E85A1-58E6-462C-8D97-76D592E4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A84F7E-F677-481E-A124-380EC310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FA6A1-6545-40C7-A875-C4E747E2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EF274-35CF-4B10-A241-EB87A97D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2C4AB-F827-4BFB-9805-D46671FA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594466-5D1C-4C38-8CE5-DB1C7681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AD2F82-6288-40A2-8DB1-73AA3D4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62213-0C47-4384-BF56-5335A359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3A7E6-917F-4509-90A5-13D6D6AC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43E1-4572-4264-86B9-CC82B59C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F52F9-4572-45DD-A895-50098F7C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4B73ED-AC22-46F2-A8DE-5E13EABA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4FCD59-AE4D-4837-88BC-609BA87C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13969-B509-47F4-BE93-FF8C92D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579D6-B10E-468C-992D-21E13C9E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3EE33-7155-45D7-9009-A2289630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96EFA4-6179-4641-B7CC-662BE03B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3543C-146E-44B8-BB5F-0CB3D2F6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7EC9C-FE7A-4A6C-B349-0864AA2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FE57C0-F19A-4567-94BC-F7B2A3DE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508A-C18C-451F-88BB-9A87F65F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B68E6-0E14-4F69-B68F-0243B7A1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D6253F-DC0B-49F0-AA01-28FF7442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C89BEC-8B7E-45A9-B7DC-6210E884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A5B96-E545-495A-9D84-A4671552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F4061C-0C66-4872-95A7-28998403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D64609-4276-4965-B29A-339D5504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8BB20-CAF5-4607-9EA4-E5AFDB85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BCA0B9-1639-419E-AF22-21750F48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5E9C2A-E6CF-49E8-A864-077C5EC0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ED0B78-B658-4F4A-AD09-353E2B8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9947-46CB-4D1C-9390-A4B315FC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E03444-6189-43DA-9C2C-08DCEED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93AB39-E522-45C0-B91F-9CD543A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B66DEE-5633-4B21-B2D4-B05DA581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7EBD53-6098-424B-A235-5510A7E3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15E98A-A3E6-40F1-A3F5-98FF913B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8AC8CD-76D7-403A-89D2-3E484C66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84B3BD-74E1-4F99-90B9-AD273B5B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440A3E-A711-46E5-9F2E-55E672D9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37715C-60FA-4663-838A-95253639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F64913-9780-4BF2-AEFC-9B875CDF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67CC-8742-478A-A5C2-AD07F62B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F6D47E-3B6C-45E8-B4EC-3C328EF1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A5AA07-E0BE-485D-ADE7-F75BDB2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029D8D-DC77-4413-9D60-9CB21EEE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C91430-0253-40DC-98DA-B437129E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2B9C72-8D30-489E-918F-39BC2E4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466254-DC6A-44F8-9B15-64F13AFB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D210D9-0B8A-4DF0-AD59-92AA07A0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0244-D5D1-4641-987E-0EA258A4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C5B4-F521-4770-A96E-E661F431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F13-AAAC-47B7-B5E9-AE0871F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F03E-4C98-49E5-82C6-38062A37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01C2-017D-4ACA-AF59-C4084382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8D75-A39D-4A81-9B83-A9EF33B6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B434-5518-468F-823A-50EA450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1970-D91E-4633-BA91-6AE905EA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369F-9160-440D-9133-A1424272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81E8-1459-4DA2-83C8-32B7CD50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7A1F-FCF8-4C1E-AB99-BA48F644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36279-83F4-4F55-89B5-289197BD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7A3E2-E1F7-4BB7-B6AC-A3114561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ECC-7A75-4815-9A1A-ADFF85E0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D629-CD56-4BA0-88B8-203D3B0D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DCB0-2DD6-4E4B-B592-3FBA3A47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E833-FE5C-42E4-88E3-D9081243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81B0-2078-473B-9F8C-5DBB0D6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C5F7-AAC6-4A03-B23B-04D51DA1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D1B9-5B30-454D-9CFB-574DB58E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0FB6-DD70-4F81-8F58-826B368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DBB9-665D-405A-AE82-6C6D0B46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4434A-AC0E-45B8-A90E-132AFB03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121CD-7FCA-44F0-BF12-370E0A64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5BE-A9AD-41D9-8AC4-AE1227AC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3FE8D-740F-44D2-8D90-8B893351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2E548-A568-4D87-B066-E1F28BE4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0CFD-D10D-481F-8A44-10C2A802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27BD-03B6-4D71-A53C-FB22D467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301F-5711-4E80-AB8F-0568B93E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AAC8-0280-4177-AED4-8F62D09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B831E-16DE-47E9-8D60-E542C57A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010C-54C4-4636-9BF7-514182E9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B4192-AECF-45F9-9E71-28DC0BB2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8B28-36D0-4A24-9083-8166275C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E4C-47E6-4FDB-BCDD-CA9DC262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E6A6-AADB-4462-82A6-D55216AE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77358-516F-4C58-B637-EE217083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751CF-6591-4549-A106-5FD4BEA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17723-6EA0-43DD-B557-2708FE92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9C363-3FB3-40B3-8642-3B2A3397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EA19F-5C7B-4059-8163-311B9390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FFC7D-6452-4948-AE56-57D2720E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7F010-6882-4888-A435-3A28EAA5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BFA3D-156B-46DE-8808-33D2AE8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3B6B8-5E61-48CA-84D1-CD4182B2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FE6-C755-481D-9D26-59A3FF25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9E86A-A8FE-45EE-A07B-291BB36C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3953-B19E-472D-A247-CAE19B22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5254D-8A35-479D-A541-497E2549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15E0-C3DF-4EFC-B316-7E2140CF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BFCA1-BD58-4291-B7C7-0EBCC747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A6D2-6DD0-48A2-8DC1-DE431A9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9F89D-63D2-4C6E-95DA-34BE9E52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67472-878D-41F3-A2DD-B425023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CC8D8-F82C-4B34-BC2B-BFBE1730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5C3D1-01EA-4837-8E7C-9D083B97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641-A0FF-48BB-9D88-1CF45DC0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FD27D-3155-437F-BF4B-76B89E5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9CCF7-82EA-4A54-B1A1-C6524641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AEE5-7AD9-4B93-94C8-7A4733BB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59902-7245-41E1-A12F-3DA129DF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7666B-1474-4C82-8FF8-F877836A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B4C2E-4427-4DFE-BFD2-2F51793D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2A4C8-076C-4FD8-A4F8-946A5CE8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4C16A-CDFC-4739-8DFC-2195B8DD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0DC09-3F19-42CC-98ED-BC604B93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BF418-30B9-4857-B14B-7C8A8DE9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23F-7614-4893-9E51-A6B5AB27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0343F-C603-4885-AA8E-E6F3D943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4ACF1-7F9F-410E-BA0E-1B36B08D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DC8DB-97D0-4E37-8B4F-8089408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ED2F8-174C-4F9E-817C-846BEBF2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00699-0E6F-47BB-A8DC-91A3B117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56B73-1A9F-49BD-8CFC-67BFF077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751A9-D505-41EC-B1E1-C752B56C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E01A2-4301-41FC-83C8-F3E859E5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9D8B1-9B33-4C13-9880-8E41551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B273B-5CD1-4E3F-A452-F2EE3C6B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B891-9701-4D14-9A62-7196DD668D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1B6B-540B-44EC-B434-301972ED98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5C8C-5D8B-45C2-B114-55EA84E986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426D-4C91-465C-ABAC-39F4D85EAC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EEF4-24C8-4BCA-A3BC-C753D33A8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105F-6397-49E3-B47F-D8098E2E39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1188-447C-4DB7-9EE4-F03BE6CAEF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25EB-8025-4525-AF3B-2346477D0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34DE-6356-4EE7-B3E4-BD93F53FE1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A366-20A5-44AF-9C19-27C82B58B3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4150-A86E-4067-87B9-8854042BD3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B64-1BC2-442A-9EB0-79B06B6D4D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BF7B-85DB-4912-B0C8-28FAC867F4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DC36-BCCE-4F54-85AB-BBA70A12F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9D75-0B72-427C-8A8E-3B3C8138D1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FEF6-6EC1-4371-8C40-85DF45031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89B9-E63E-48AA-AB62-3A0236A44B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DA96-4CC0-4DC0-B168-E9F648B04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6E44-F59A-4857-B570-4261BFF3E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F652-FECF-4809-BEDC-59BA2164F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CBE0-C766-43CE-88A5-92174AF4E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182B-BCB5-411D-8E0F-3ED8A5DDF3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324-31FA-40E5-B3AF-A23EFD69D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EA38-6877-4627-B345-CDBFFCBC89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9757-A56C-42CC-B668-EA38E111C0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F14D-65D7-49BB-BFBF-AC792F877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60D0-CCF0-42DA-AF2D-F8CFC2F79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C331-9D88-4F0B-BCE3-F58E3F0FA3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1438-D5F1-4DAB-BAE0-0DA7E2A5F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2608-5790-48AE-AAE5-27BC60A85E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143C-96A8-4050-974C-6B3F99D20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013B-FEBF-4911-8648-280BB276C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A8DA-F66F-482F-A408-8CA57DBA0B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85E-71B7-415B-B399-F8C9A797A2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B00E-9E22-484D-A4E6-4DDAB5BA95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58F9-7126-4D7F-BB2B-47F41B49C7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0397-B14D-4150-A253-DF41877D7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E612-D0BB-489D-AB24-3162D88BC9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522A-FEAE-4B8B-B20F-34F203B11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EA00-780C-4FF3-9569-71B1C6303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4F5D-034C-4661-B44A-67C91441D5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1C61-1180-4874-8805-28DD88BD94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90440" y="3089160"/>
            <a:ext cx="8763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4200" y="797040"/>
            <a:ext cx="8715600" cy="5981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58341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58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971640" y="5734080"/>
            <a:ext cx="58338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900000" y="6324480"/>
            <a:ext cx="583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122480" y="701640"/>
            <a:ext cx="7221600" cy="60469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619280" y="432108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547640" y="4797360"/>
            <a:ext cx="43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1547640" y="5229360"/>
            <a:ext cx="43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1476360" y="580536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1476360" y="6310440"/>
            <a:ext cx="432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414360" y="76320"/>
            <a:ext cx="8520120" cy="6705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1042920" y="522936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1042920" y="574848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6"/>
          <a:stretch/>
        </p:blipFill>
        <p:spPr>
          <a:xfrm>
            <a:off x="1042920" y="635328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81080" y="876240"/>
            <a:ext cx="8781840" cy="5105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332000" y="491184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403280" y="5516640"/>
            <a:ext cx="547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581040" y="1528920"/>
            <a:ext cx="7981920" cy="3800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042920" y="28368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70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971640" y="4495680"/>
            <a:ext cx="7057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33280" y="52560"/>
            <a:ext cx="8677440" cy="6752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403280" y="463716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332000" y="5172120"/>
            <a:ext cx="568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56894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332000" y="6265800"/>
            <a:ext cx="56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476280" y="1542960"/>
            <a:ext cx="8191440" cy="37720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042920" y="2722680"/>
            <a:ext cx="61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61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61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042920" y="4422600"/>
            <a:ext cx="612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3360" y="1273320"/>
            <a:ext cx="9017280" cy="189864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2" descr=""/>
          <p:cNvPicPr/>
          <p:nvPr/>
        </p:nvPicPr>
        <p:blipFill>
          <a:blip r:embed="rId2"/>
          <a:stretch/>
        </p:blipFill>
        <p:spPr>
          <a:xfrm>
            <a:off x="1379520" y="3760920"/>
            <a:ext cx="6896160" cy="21812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3059280" y="1700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310356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5796000" y="1773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543564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8323200" y="17445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8445600" y="227664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2916360" y="436572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0"/>
          <a:stretch/>
        </p:blipFill>
        <p:spPr>
          <a:xfrm>
            <a:off x="3059280" y="4941720"/>
            <a:ext cx="68400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1"/>
          <a:stretch/>
        </p:blipFill>
        <p:spPr>
          <a:xfrm>
            <a:off x="6012000" y="436572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2"/>
          <a:stretch/>
        </p:blipFill>
        <p:spPr>
          <a:xfrm>
            <a:off x="6357960" y="4941720"/>
            <a:ext cx="1022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3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